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218EA-477E-4EDC-9E06-E7F45C283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228600" y="144792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5146-254C-402F-9279-AB8FA597B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B3D4A-62D4-480F-B107-8DACDA055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22860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3992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5124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3992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5124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C9C6F-7F83-4FA9-8BE9-B2D1F0D5C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447920"/>
            <a:ext cx="8610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447920"/>
            <a:ext cx="8610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228600" y="1447920"/>
            <a:ext cx="8610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6FB4E-9AE2-456F-ACD1-603C5922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44792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3992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51240" y="144792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3992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51240" y="3812040"/>
            <a:ext cx="277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447920"/>
            <a:ext cx="8610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E488-2CE0-43E9-9D40-1A546951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9EFD-7F42-487C-B561-CF99C060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3EF34-48E7-48C4-B256-F8FDA3F45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24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1CAB-6C1A-4E14-9AAA-8EB2D8DE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076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2941-4325-4843-89DD-D7311CDF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228600" y="1447920"/>
            <a:ext cx="420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40760" y="381204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8BC4-6148-47D8-AF7D-32F3AA13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22860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40760" y="1447920"/>
            <a:ext cx="420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3812040"/>
            <a:ext cx="8610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F2AB-7764-4248-9609-4668B14E1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j0395964"/>
          <p:cNvPicPr/>
          <p:nvPr/>
        </p:nvPicPr>
        <p:blipFill>
          <a:blip r:embed="rId2"/>
          <a:stretch/>
        </p:blipFill>
        <p:spPr>
          <a:xfrm>
            <a:off x="0" y="0"/>
            <a:ext cx="9144000" cy="6864480"/>
          </a:xfrm>
          <a:prstGeom prst="rect">
            <a:avLst/>
          </a:prstGeom>
          <a:ln w="0">
            <a:noFill/>
          </a:ln>
        </p:spPr>
      </p:pic>
      <p:sp>
        <p:nvSpPr>
          <p:cNvPr id="1" name="Rectangle 9"/>
          <p:cNvSpPr/>
          <p:nvPr/>
        </p:nvSpPr>
        <p:spPr>
          <a:xfrm>
            <a:off x="0" y="6019920"/>
            <a:ext cx="91440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228600" y="144792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324480"/>
            <a:ext cx="2133720" cy="23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28600" y="6629040"/>
            <a:ext cx="5867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Template from www.brainybetty.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229240" y="6629040"/>
            <a:ext cx="762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936A-2A3F-45A7-9BE3-AFB842DF3B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j0395964"/>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5" name="PlaceHolder 2"/>
          <p:cNvSpPr>
            <a:spLocks noGrp="1"/>
          </p:cNvSpPr>
          <p:nvPr>
            <p:ph type="body"/>
          </p:nvPr>
        </p:nvSpPr>
        <p:spPr>
          <a:xfrm>
            <a:off x="228600" y="144792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E:\studiu de caz\cel-mai-iubit-47911.jpg"/>
          <p:cNvPicPr/>
          <p:nvPr/>
        </p:nvPicPr>
        <p:blipFill>
          <a:blip r:embed="rId1"/>
          <a:stretch/>
        </p:blipFill>
        <p:spPr>
          <a:xfrm>
            <a:off x="6781680" y="1828800"/>
            <a:ext cx="2140200" cy="2871720"/>
          </a:xfrm>
          <a:prstGeom prst="rect">
            <a:avLst/>
          </a:prstGeom>
          <a:ln w="0">
            <a:noFill/>
          </a:ln>
        </p:spPr>
      </p:pic>
      <p:grpSp>
        <p:nvGrpSpPr>
          <p:cNvPr id="83" name="Rectangle 2"/>
          <p:cNvGrpSpPr/>
          <p:nvPr/>
        </p:nvGrpSpPr>
        <p:grpSpPr>
          <a:xfrm>
            <a:off x="4413240" y="-85680"/>
            <a:ext cx="4968720" cy="3066840"/>
            <a:chOff x="4413240" y="-85680"/>
            <a:chExt cx="4968720" cy="3066840"/>
          </a:xfrm>
        </p:grpSpPr>
        <p:pic>
          <p:nvPicPr>
            <p:cNvPr id="84" name="Rectangle 2" descr=""/>
            <p:cNvPicPr/>
            <p:nvPr/>
          </p:nvPicPr>
          <p:blipFill>
            <a:blip r:embed="rId2"/>
            <a:stretch/>
          </p:blipFill>
          <p:spPr>
            <a:xfrm>
              <a:off x="4413240" y="-85680"/>
              <a:ext cx="4968720" cy="3066840"/>
            </a:xfrm>
            <a:prstGeom prst="rect">
              <a:avLst/>
            </a:prstGeom>
            <a:ln w="0">
              <a:noFill/>
            </a:ln>
          </p:spPr>
        </p:pic>
        <p:sp>
          <p:nvSpPr>
            <p:cNvPr id="85" name=""/>
            <p:cNvSpPr/>
            <p:nvPr/>
          </p:nvSpPr>
          <p:spPr>
            <a:xfrm>
              <a:off x="4648320" y="152280"/>
              <a:ext cx="4495680" cy="2590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Harlow Solid Italic"/>
                </a:rPr>
                <a:t>Studiu de caz</a:t>
              </a:r>
              <a:br>
                <a:rPr sz="4000"/>
              </a:br>
              <a:endParaRPr b="0" lang="en-US" sz="4000" spc="-1" strike="noStrike">
                <a:solidFill>
                  <a:srgbClr val="000000"/>
                </a:solidFill>
                <a:latin typeface="Arial"/>
              </a:endParaRPr>
            </a:p>
          </p:txBody>
        </p:sp>
      </p:grpSp>
      <p:sp>
        <p:nvSpPr>
          <p:cNvPr id="86" name="PlaceHolder 1"/>
          <p:cNvSpPr>
            <a:spLocks noGrp="1"/>
          </p:cNvSpPr>
          <p:nvPr>
            <p:ph type="subTitle"/>
          </p:nvPr>
        </p:nvSpPr>
        <p:spPr>
          <a:xfrm>
            <a:off x="0" y="5943240"/>
            <a:ext cx="9144000" cy="6858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arlow Solid Italic"/>
              </a:rPr>
              <a:t>Romanul postbelic</a:t>
            </a:r>
            <a:endParaRPr b="0" lang="en-US" sz="3600" spc="-1" strike="noStrike">
              <a:solidFill>
                <a:srgbClr val="000000"/>
              </a:solidFill>
              <a:latin typeface="Arial"/>
            </a:endParaRPr>
          </a:p>
        </p:txBody>
      </p:sp>
      <p:pic>
        <p:nvPicPr>
          <p:cNvPr id="87" name="Picture 5" descr="E:\studiu de caz\Morometii_1241529752_0_1988.jpg"/>
          <p:cNvPicPr/>
          <p:nvPr/>
        </p:nvPicPr>
        <p:blipFill>
          <a:blip r:embed="rId3"/>
          <a:stretch/>
        </p:blipFill>
        <p:spPr>
          <a:xfrm>
            <a:off x="380880" y="3352680"/>
            <a:ext cx="2133720" cy="2340000"/>
          </a:xfrm>
          <a:prstGeom prst="rect">
            <a:avLst/>
          </a:prstGeom>
          <a:ln w="114480">
            <a:solidFill>
              <a:srgbClr val="ffffff">
                <a:alpha val="35000"/>
              </a:srgbClr>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04920" y="533520"/>
            <a:ext cx="8610480" cy="4525920"/>
          </a:xfrm>
          <a:prstGeom prst="rect">
            <a:avLst/>
          </a:prstGeom>
          <a:noFill/>
          <a:ln w="0">
            <a:noFill/>
          </a:ln>
        </p:spPr>
        <p:txBody>
          <a:bodyPr anchor="t">
            <a:normAutofit/>
          </a:bodyPr>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Lucida Calligraphy"/>
              </a:rPr>
              <a:t>Personajul Ilie Moromete resprezinta un personaj atipic pentru literatura de inspiratie rurala, un spirit reflexiv, contemplativ, un “taran filozof”’, pentru care accentul nu mai cade pe dimensiunea materiala a existentei, pe nevoia de posesie a pamantului (ca la alte personaje din literatura romana, precum Ion din romanul lui Liviu Rebreanu), ci pe coordonata spirituala, pe libertatea individului de a se raporta la lu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Lucida Calligraphy"/>
              </a:rPr>
              <a:t>Personaj exponential, al carui destin exprima moartea unei lumi, “cel din urma taran”, reprezinta conceptia traditionala fata de pamant si de familie. Criza satului arhaic se reflecta in constiinta acestui personaj confruntat, tragic, cu legile implacabile ale istoriei, cu timpul nerabdator.</a:t>
            </a:r>
            <a:endParaRPr b="0" lang="en-US" sz="2200" spc="-1" strike="noStrike">
              <a:solidFill>
                <a:srgbClr val="000000"/>
              </a:solidFill>
              <a:latin typeface="Arial"/>
            </a:endParaRPr>
          </a:p>
          <a:p>
            <a:pPr marL="343080" indent="-343080">
              <a:lnSpc>
                <a:spcPct val="100000"/>
              </a:lnSpc>
              <a:spcBef>
                <a:spcPts val="55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228600" y="228240"/>
            <a:ext cx="8610480" cy="574524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Lucida Calligraphy"/>
              </a:rPr>
              <a:t>Dupa cum marturiseste Marin Preda, Ilie Moromete este personajul preferat al intregii sale opere, o proiectie literara a tatalui sau, Tudor Calarasu. Personajul principal din </a:t>
            </a:r>
            <a:r>
              <a:rPr b="1" lang="ro-RO" sz="2000" spc="-1" strike="noStrike">
                <a:solidFill>
                  <a:srgbClr val="000000"/>
                </a:solidFill>
                <a:latin typeface="Lucida Calligraphy"/>
              </a:rPr>
              <a:t>Morometii</a:t>
            </a:r>
            <a:r>
              <a:rPr b="0" lang="ro-RO" sz="2000" spc="-1" strike="noStrike">
                <a:solidFill>
                  <a:srgbClr val="000000"/>
                </a:solidFill>
                <a:latin typeface="Lucida Calligraphy"/>
              </a:rPr>
              <a:t> reprezinta un tip aparte de taran in literatur</a:t>
            </a:r>
            <a:r>
              <a:rPr b="0" lang="en-US" sz="2000" spc="-1" strike="noStrike">
                <a:solidFill>
                  <a:srgbClr val="000000"/>
                </a:solidFill>
                <a:latin typeface="Lucida Calligraphy"/>
              </a:rPr>
              <a:t>a</a:t>
            </a:r>
            <a:r>
              <a:rPr b="0" lang="ro-RO" sz="2000" spc="-1" strike="noStrike">
                <a:solidFill>
                  <a:srgbClr val="000000"/>
                </a:solidFill>
                <a:latin typeface="Lucida Calligraphy"/>
              </a:rPr>
              <a:t> romana, cu o serie de calitati care il fac memorabil. Dimensiunea tragica a personajului, confruntat cu istoria se proiecteaza pe doua coordonate fundamentale: “cel din urma taran” ce asista neputincios la destramarea “rostului” sau, a satului traditional, cu valorile lui, si tatal ce nu poate opri instrainarea propriilor copii si destramarea familiei. </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pic>
        <p:nvPicPr>
          <p:cNvPr id="114" name="Picture 2" descr="E:\studiu de caz\Morometii_1238925324_0_1988.jpg"/>
          <p:cNvPicPr/>
          <p:nvPr/>
        </p:nvPicPr>
        <p:blipFill>
          <a:blip r:embed="rId1"/>
          <a:stretch/>
        </p:blipFill>
        <p:spPr>
          <a:xfrm>
            <a:off x="3200400" y="3733920"/>
            <a:ext cx="2857680" cy="2857320"/>
          </a:xfrm>
          <a:prstGeom prst="rect">
            <a:avLst/>
          </a:prstGeom>
          <a:ln w="114480">
            <a:solidFill>
              <a:srgbClr val="ffffff">
                <a:alpha val="40000"/>
              </a:srgbClr>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Cel mai iubit dintre pamanteni</a:t>
            </a:r>
            <a:endParaRPr b="0" lang="en-US" sz="4000" spc="-1" strike="noStrike">
              <a:solidFill>
                <a:srgbClr val="000000"/>
              </a:solidFill>
              <a:latin typeface="Arial"/>
            </a:endParaRPr>
          </a:p>
        </p:txBody>
      </p:sp>
      <p:sp>
        <p:nvSpPr>
          <p:cNvPr id="116"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45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lligraphy"/>
              </a:rPr>
              <a:t>Tema</a:t>
            </a:r>
            <a:r>
              <a:rPr b="0" lang="en-US" sz="1800" spc="-1" strike="noStrike">
                <a:solidFill>
                  <a:srgbClr val="000000"/>
                </a:solidFill>
                <a:latin typeface="Lucida Calligraphy"/>
              </a:rPr>
              <a:t> generala a romanului este legata de mitul fericirii, autorul realizand istoricul sentimentului iubirii, urcand spre sublim sau coborand spre abjectie. Acestei teme i se alatura si perspectiva relatiei omului cu istoria. Personajul principal, Victor Petrini, este fortat de mersul istoriei sa treaca prin mai multe medii sociale si, direct sau indirect, sa traiasca evenimentele epocii, sa reflecteze pe marginea propriei vieti, a propriului destin sau pe marginea destinelor celor din jurul sau.</a:t>
            </a:r>
            <a:endParaRPr b="0" lang="en-US" sz="1800" spc="-1" strike="noStrike">
              <a:solidFill>
                <a:srgbClr val="000000"/>
              </a:solidFill>
              <a:latin typeface="Arial"/>
            </a:endParaRPr>
          </a:p>
          <a:p>
            <a:pPr marL="343080" indent="-343080">
              <a:lnSpc>
                <a:spcPct val="100000"/>
              </a:lnSpc>
              <a:spcBef>
                <a:spcPts val="45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E:\studiu de caz\thumb_446_x_0_5591-115481-1.jpg"/>
          <p:cNvPicPr/>
          <p:nvPr/>
        </p:nvPicPr>
        <p:blipFill>
          <a:blip r:embed="rId1"/>
          <a:stretch/>
        </p:blipFill>
        <p:spPr>
          <a:xfrm>
            <a:off x="3200400" y="3809880"/>
            <a:ext cx="2411280" cy="2887920"/>
          </a:xfrm>
          <a:prstGeom prst="rect">
            <a:avLst/>
          </a:prstGeom>
          <a:ln w="114480">
            <a:solidFill>
              <a:srgbClr val="ffffff">
                <a:alpha val="30000"/>
              </a:srgbClr>
            </a:solidFill>
            <a:miter/>
          </a:ln>
        </p:spPr>
      </p:pic>
      <p:sp>
        <p:nvSpPr>
          <p:cNvPr id="118"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04920" y="228240"/>
            <a:ext cx="8610480" cy="289548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Titlul explica apologia iubirii ca virtute prin care omul se regaseste, se redescopera si, de asemenea, il regaseste pe Dumnezeu. “Cel mai iubit dintre pamanteni” este insusi cel pe care Dumnezeu il iubeste si care intelege ca aceasta iubire il asaza fata in fata cu sine insusi, chiar daca el se afla in spatial inchis al prizonieratului; acesta este conceput ca spatiu al jertfei si al redobandirii iubirii.</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pic>
        <p:nvPicPr>
          <p:cNvPr id="121" name="Picture 4" descr="E:\studiu de caz\cel-mai-iubit-47911.jpg"/>
          <p:cNvPicPr/>
          <p:nvPr/>
        </p:nvPicPr>
        <p:blipFill>
          <a:blip r:embed="rId1"/>
          <a:stretch/>
        </p:blipFill>
        <p:spPr>
          <a:xfrm>
            <a:off x="3316320" y="2779560"/>
            <a:ext cx="213984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99072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Victor Petrini reprezinta intruparea intelectualului si implicit, a clasei intelectuale pe care o prezinta obiectiv, “cu straina gura”, fara a o falsifica. Textul prezinta biografia subiectiva a personajului pornind de la o adolescenta destul de turbulenta, urmata de o tinerete marcata de indiferenta si nepasa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Victor Petrini se dovedeste un luptator singuratic ce traverseaza experiente limita, din care pare sa iasa intotdeaun a invingator, dovedind astfel tenacitate si vointa. Astfel, el devine un personaj complex: deloc idealizat, are si calitati si defecte, care ii acccentuaza latura uman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304920" y="22860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Petrini isi pastreaza verticalitatea morala, refuzand orice concesie si continuand sa scrie o literatura de sertar pe care spera ca o va publica intr-un anume viitor. Prin imaginea lui Victor Petrini se face aluzie la oportunismul unor scriitori care se indeparteaza de criteriul estetic.</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Slide Number Placeholder 4"/>
          <p:cNvSpPr/>
          <p:nvPr/>
        </p:nvSpPr>
        <p:spPr>
          <a:xfrm>
            <a:off x="6172200" y="6553080"/>
            <a:ext cx="2971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Cel mai iubit dintre pamanteni</a:t>
            </a:r>
            <a:endParaRPr b="0" lang="en-US" sz="1600" spc="-1" strike="noStrike">
              <a:solidFill>
                <a:srgbClr val="000000"/>
              </a:solidFill>
              <a:latin typeface="Arial"/>
            </a:endParaRPr>
          </a:p>
        </p:txBody>
      </p:sp>
      <p:pic>
        <p:nvPicPr>
          <p:cNvPr id="126" name="Picture 2" descr="E:\studiu de caz\dsdsds.JPG"/>
          <p:cNvPicPr/>
          <p:nvPr/>
        </p:nvPicPr>
        <p:blipFill>
          <a:blip r:embed="rId1">
            <a:grayscl/>
            <a:alphaModFix amt="48000"/>
          </a:blip>
          <a:stretch/>
        </p:blipFill>
        <p:spPr>
          <a:xfrm>
            <a:off x="2362320" y="2362320"/>
            <a:ext cx="4365360" cy="3298680"/>
          </a:xfrm>
          <a:prstGeom prst="rect">
            <a:avLst/>
          </a:prstGeom>
          <a:ln w="114480">
            <a:solidFill>
              <a:srgbClr val="000000">
                <a:alpha val="31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 </a:t>
            </a:r>
            <a:r>
              <a:rPr b="1" lang="en-US" sz="4000" spc="-1" strike="noStrike">
                <a:solidFill>
                  <a:srgbClr val="000000"/>
                </a:solidFill>
                <a:latin typeface="Harlow Solid Italic"/>
              </a:rPr>
              <a:t>Concluzii:</a:t>
            </a:r>
            <a:endParaRPr b="0" lang="en-US" sz="4000" spc="-1" strike="noStrike">
              <a:solidFill>
                <a:srgbClr val="000000"/>
              </a:solidFill>
              <a:latin typeface="Arial"/>
            </a:endParaRPr>
          </a:p>
        </p:txBody>
      </p:sp>
      <p:sp>
        <p:nvSpPr>
          <p:cNvPr id="128"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Lucida Calligraphy"/>
              </a:rPr>
              <a:t>Marin Preda-romancier complex care abordeaza toate tipurile de naratiuni,capabil sa transmita cu crez artistic raportat la valorile traditiei,dar si la cele ale modernitatii.</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9" name=""/>
          <p:cNvGraphicFramePr/>
          <p:nvPr/>
        </p:nvGraphicFramePr>
        <p:xfrm>
          <a:off x="228600" y="3200400"/>
          <a:ext cx="8763120" cy="2124000"/>
        </p:xfrm>
        <a:graphic>
          <a:graphicData uri="http://schemas.openxmlformats.org/drawingml/2006/table">
            <a:tbl>
              <a:tblPr/>
              <a:tblGrid>
                <a:gridCol w="4119480"/>
                <a:gridCol w="46436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Lucida Calligraphy"/>
                        </a:rPr>
                        <a:t>Morometii</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ucida Calligraphy"/>
                          <a:ea typeface="Times New Roman"/>
                        </a:rPr>
                        <a:t>        </a:t>
                      </a:r>
                      <a:r>
                        <a:rPr b="1" lang="fr-FR" sz="1800" spc="-1" strike="noStrike">
                          <a:solidFill>
                            <a:srgbClr val="ffffff"/>
                          </a:solidFill>
                          <a:latin typeface="Lucida Calligraphy"/>
                          <a:ea typeface="Times New Roman"/>
                        </a:rPr>
                        <a:t>Cel mai iubit dintre pamanteni</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00000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discurs obiectiv</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discurs subiectiv→confesiune</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viziune heterodiegetica</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viziune homodiegetica</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personaj emblematic pentru lumea sa</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a:t>
                      </a:r>
                      <a:r>
                        <a:rPr b="0" lang="en-US" sz="1800" spc="-1" strike="noStrike">
                          <a:solidFill>
                            <a:srgbClr val="000000"/>
                          </a:solidFill>
                          <a:latin typeface="Lucida Calligraphy"/>
                        </a:rPr>
                        <a:t>personajul prezinta o constiinta unica</a:t>
                      </a: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reprezinta o generatie</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Calligraphy"/>
                        </a:rPr>
                        <a:t>●</a:t>
                      </a:r>
                      <a:r>
                        <a:rPr b="0" lang="fr-FR" sz="1800" spc="-1" strike="noStrike">
                          <a:solidFill>
                            <a:srgbClr val="000000"/>
                          </a:solidFill>
                          <a:latin typeface="Lucida Calligraphy"/>
                        </a:rPr>
                        <a:t>se reprezinta pe sine</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
        <p:nvSpPr>
          <p:cNvPr id="13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Marin Preda</a:t>
            </a:r>
            <a:br>
              <a:rPr sz="4000"/>
            </a:br>
            <a:endParaRPr b="0" lang="en-US" sz="4000" spc="-1" strike="noStrike">
              <a:solidFill>
                <a:srgbClr val="000000"/>
              </a:solidFill>
              <a:latin typeface="Arial"/>
            </a:endParaRPr>
          </a:p>
        </p:txBody>
      </p:sp>
      <p:sp>
        <p:nvSpPr>
          <p:cNvPr id="89"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Marin Preda se afirma in plina epoca a modernitatii dar reuseste sa ramana credincios traditiei prin: abordarea tematicii rurale, prin viziunea asupra taranului si prin proza obiectiva, echilibrata, atent structura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ebutul sau sta sub semnul legaturii cu lumea satului si sub semnul valorilor pe care doar taranul le pastreaza si le transmite, asa ca in ciclul morometian compus din: “Morometii” volumul I, “Delirul”, “Marele singuratic”, “Morometii” volumul II.</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Aceste romane se caracterizeaza prin obiectivitate,prin grija pentru crearea unui tabloul realist al lumii satului. Personajele sunt reprezentari artistice ale unor personaje reale, romancierul insusi marturisind ca lumea Morometilor este lumea copilariei sale si ca modelul literar al lui Ilie Moromete este insusi tatal sau, Tudor Calarasu. De asemenea, destinul lui Niculae, mezinul vrajit de puterea cuvantului scris traieste experiente pe care romancierul i le-a imprumutat din biografia sa.</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
          <p:cNvSpPr txBox="1"/>
          <p:nvPr/>
        </p:nvSpPr>
        <p:spPr>
          <a:xfrm>
            <a:off x="228600" y="1447920"/>
            <a:ext cx="8610480" cy="452592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Maturitatea artistica a lui Marin Preda va aduce in prim plan si formula romanului subiectiv, citadin, care dezvolta problematica intelectualului inadaptat. Astfel, cu romanul </a:t>
            </a:r>
            <a:r>
              <a:rPr b="1" lang="en-US" sz="2400" spc="-1" strike="noStrike">
                <a:solidFill>
                  <a:srgbClr val="000000"/>
                </a:solidFill>
                <a:latin typeface="Lucida Calligraphy"/>
              </a:rPr>
              <a:t>Cel mai iubit dintre pamanteni, </a:t>
            </a:r>
            <a:r>
              <a:rPr b="0" lang="en-US" sz="2400" spc="-1" strike="noStrike">
                <a:solidFill>
                  <a:srgbClr val="000000"/>
                </a:solidFill>
                <a:latin typeface="Lucida Calligraphy"/>
              </a:rPr>
              <a:t>Marin Preda se redefineste ca romancier de factura moderna, scriind un roman-eseu formulat ca meditatie intelectuala asupra mitului fericirii.  </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aca debutul lui Marin Preda sta sub semnul romanului obiectiv, maturitatea artistica infatiseaza tipul de roman subiectiv. </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04920" y="228240"/>
            <a:ext cx="8610480" cy="5638680"/>
          </a:xfrm>
          <a:prstGeom prst="rect">
            <a:avLst/>
          </a:prstGeom>
          <a:noFill/>
          <a:ln w="0">
            <a:noFill/>
          </a:ln>
        </p:spPr>
        <p:txBody>
          <a:bodyPr anchor="t">
            <a:normAutofit/>
          </a:bodyPr>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Tematica scrierilor lui Marin Preda este una de factura rurala cu referire la Ilie Moromete si la personajul emblematic pe care il creeaza aici. Lumea satului traditionalist, conservator, are il Ilie Moromete reprezentantul principiilor sale de existenta, potrivit carora unica valoare ce justifica forta si energia umana este pamantul.</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rPr>
              <a:t>De asemenea, Marin Preda defineste si spatial citadin precum si tipologia intelectualului. Orasul reprezinta un spatiu al provocarilor, pe care un intelectual, Victor Petrini, il intelege ca spatiu de cunoastere si de desavarsire. Valoarea acestei lumi in care crede Victor Petrini este insusi sufletul omenesc, capabil de bucurii si sacrificii in numele idealului.</a:t>
            </a:r>
            <a:endParaRPr b="0" lang="en-US" sz="2400" spc="-1" strike="noStrike">
              <a:solidFill>
                <a:srgbClr val="000000"/>
              </a:solidFill>
              <a:latin typeface="Arial"/>
            </a:endParaRPr>
          </a:p>
          <a:p>
            <a:pPr marL="343080" indent="-343080">
              <a:lnSpc>
                <a:spcPct val="100000"/>
              </a:lnSpc>
              <a:spcBef>
                <a:spcPts val="601"/>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28600" y="151920"/>
            <a:ext cx="8610480" cy="574524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Daca in cazul romanului </a:t>
            </a:r>
            <a:r>
              <a:rPr b="1" lang="en-US" sz="2000" spc="-1" strike="noStrike">
                <a:solidFill>
                  <a:srgbClr val="000000"/>
                </a:solidFill>
                <a:latin typeface="Lucida Calligraphy"/>
              </a:rPr>
              <a:t>Morometii</a:t>
            </a:r>
            <a:r>
              <a:rPr b="0" lang="en-US" sz="2000" spc="-1" strike="noStrike">
                <a:solidFill>
                  <a:srgbClr val="000000"/>
                </a:solidFill>
                <a:latin typeface="Lucida Calligraphy"/>
              </a:rPr>
              <a:t> echilibrul personajelor este posibil doar prin realizarea lor sociala, ca viata exterioara, in </a:t>
            </a:r>
            <a:r>
              <a:rPr b="1" lang="en-US" sz="2000" spc="-1" strike="noStrike">
                <a:solidFill>
                  <a:srgbClr val="000000"/>
                </a:solidFill>
                <a:latin typeface="Lucida Calligraphy"/>
              </a:rPr>
              <a:t>Cel mai iubit dintre pamanteni </a:t>
            </a:r>
            <a:r>
              <a:rPr b="0" lang="en-US" sz="2000" spc="-1" strike="noStrike">
                <a:solidFill>
                  <a:srgbClr val="000000"/>
                </a:solidFill>
                <a:latin typeface="Lucida Calligraphy"/>
              </a:rPr>
              <a:t>echilibrul se defineste in forul interior al protagonistului.</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Ceea ce asigura unitatea si continuitatea acestor romane este definirea temei generale a conflictului dintre om si istorie si dintre om si propriul lui destin. </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In ceea ce-l priveste pe Ilie Moromete, el este ultimul dintre tarani, care si-a realizat telul libertatii si independentei sale in ciuda schimbarilor de ordin politic, social, economic, schimbari dictate de mersul istoriei. </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alligraphy"/>
              </a:rPr>
              <a:t>De asemenea, Victor Petrini gaseste calea sa-si realizeze echilibrul interior prin confesiune, iertare si iubire, dovedind ca si Moromete ca in conflictul dintre om si istorie invingator iese omul.</a:t>
            </a:r>
            <a:endParaRPr b="0" lang="en-US" sz="2000" spc="-1" strike="noStrike">
              <a:solidFill>
                <a:srgbClr val="000000"/>
              </a:solidFill>
              <a:latin typeface="Arial"/>
            </a:endParaRPr>
          </a:p>
          <a:p>
            <a:pPr marL="339480" indent="-339480">
              <a:lnSpc>
                <a:spcPct val="100000"/>
              </a:lnSpc>
              <a:spcBef>
                <a:spcPts val="4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4"/>
          <p:cNvSpPr/>
          <p:nvPr/>
        </p:nvSpPr>
        <p:spPr>
          <a:xfrm>
            <a:off x="3809880" y="6553080"/>
            <a:ext cx="5334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 vs.Cel mai iubit dintre pamanten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arlow Solid Italic"/>
              </a:rPr>
              <a:t>Tema si viziune despre lume</a:t>
            </a:r>
            <a:endParaRPr b="0" lang="en-US" sz="4000" spc="-1" strike="noStrike">
              <a:solidFill>
                <a:srgbClr val="000000"/>
              </a:solidFill>
              <a:latin typeface="Arial"/>
            </a:endParaRPr>
          </a:p>
        </p:txBody>
      </p:sp>
      <p:sp>
        <p:nvSpPr>
          <p:cNvPr id="102" name="PlaceHolder 2"/>
          <p:cNvSpPr>
            <a:spLocks noGrp="1"/>
          </p:cNvSpPr>
          <p:nvPr>
            <p:ph/>
          </p:nvPr>
        </p:nvSpPr>
        <p:spPr>
          <a:xfrm>
            <a:off x="304920" y="1523880"/>
            <a:ext cx="861048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alligraphy"/>
              </a:rPr>
              <a:t>                      </a:t>
            </a:r>
            <a:r>
              <a:rPr b="1" lang="en-US" sz="2800" spc="-1" strike="noStrike">
                <a:solidFill>
                  <a:srgbClr val="000000"/>
                </a:solidFill>
                <a:latin typeface="Lucida Calligraphy"/>
              </a:rPr>
              <a:t>Morometii</a:t>
            </a:r>
            <a:endParaRPr b="0" lang="en-US" sz="2800" spc="-1" strike="noStrike">
              <a:solidFill>
                <a:srgbClr val="000000"/>
              </a:solidFill>
              <a:latin typeface="Arial"/>
            </a:endParaRPr>
          </a:p>
          <a:p>
            <a:pPr marL="343080" indent="-343080">
              <a:lnSpc>
                <a:spcPct val="100000"/>
              </a:lnSpc>
              <a:spcBef>
                <a:spcPts val="700"/>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alligraphy"/>
              </a:rPr>
              <a:t>Tema</a:t>
            </a:r>
            <a:r>
              <a:rPr b="0" lang="en-US" sz="2800" spc="-1" strike="noStrike">
                <a:solidFill>
                  <a:srgbClr val="000000"/>
                </a:solidFill>
                <a:latin typeface="Lucida Calligraphy"/>
              </a:rPr>
              <a:t> acestui roman aduce in prim-plan conditia taranului in istorie, a familiei si a modului de existenta patriarhal, specific satului traditional romanesc. Destinul lui Ilie Moromete ilustreaza de fapt destinul intregii clase taranesti sub impactul schimbarilor istorice si politice: al Doilea Razboi Mondial, colectivizarea si instaurarea regimului comunis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10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228600" y="228240"/>
            <a:ext cx="8610480" cy="5745240"/>
          </a:xfrm>
          <a:prstGeom prst="rect">
            <a:avLst/>
          </a:prstGeom>
          <a:noFill/>
          <a:ln w="0">
            <a:noFill/>
          </a:ln>
        </p:spPr>
        <p:txBody>
          <a:bodyPr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O alta tema este absenta unei comunicari reale intre Moromete si familia sa. Tema timpului viclean, nerabdator (“timpul nu mai avea rabdare”), relatia dintre individ si istorie nuanteaza tema socia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E:\studiu de caz\Morometii_1241529752_2_1988.jpg"/>
          <p:cNvPicPr/>
          <p:nvPr/>
        </p:nvPicPr>
        <p:blipFill>
          <a:blip r:embed="rId1"/>
          <a:stretch/>
        </p:blipFill>
        <p:spPr>
          <a:xfrm>
            <a:off x="2590920" y="3581280"/>
            <a:ext cx="4286160" cy="2857680"/>
          </a:xfrm>
          <a:prstGeom prst="rect">
            <a:avLst/>
          </a:prstGeom>
          <a:ln w="114480">
            <a:solidFill>
              <a:srgbClr val="ffffff">
                <a:alpha val="42000"/>
              </a:srgbClr>
            </a:solidFill>
            <a:miter/>
          </a:ln>
        </p:spPr>
      </p:pic>
      <p:sp>
        <p:nvSpPr>
          <p:cNvPr id="106"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304920" y="228600"/>
            <a:ext cx="8610480" cy="4525920"/>
          </a:xfrm>
          <a:prstGeom prst="rect">
            <a:avLst/>
          </a:prstGeom>
          <a:noFill/>
          <a:ln w="0">
            <a:noFill/>
          </a:ln>
        </p:spPr>
        <p:txBody>
          <a:bodyPr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Titlul </a:t>
            </a:r>
            <a:r>
              <a:rPr b="1" lang="en-US" sz="3200" spc="-1" strike="noStrike">
                <a:solidFill>
                  <a:srgbClr val="000000"/>
                </a:solidFill>
                <a:latin typeface="Lucida Calligraphy"/>
              </a:rPr>
              <a:t>Morometii</a:t>
            </a:r>
            <a:r>
              <a:rPr b="0" lang="en-US" sz="3200" spc="-1" strike="noStrike">
                <a:solidFill>
                  <a:srgbClr val="000000"/>
                </a:solidFill>
                <a:latin typeface="Lucida Calligraphy"/>
              </a:rPr>
              <a:t> aseaza tema familiei in centrul romanului, insa evolutia si criza familiei sunt simbolice pentru transformarile din satul romanesc al vremii, astfel ca romanul unei familii este si “un roman al deruralizarii satului” (N. Manolescu).</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2" descr="E:\studiu de caz\Morometii_1238866495_2_1988.jpg"/>
          <p:cNvPicPr/>
          <p:nvPr/>
        </p:nvPicPr>
        <p:blipFill>
          <a:blip r:embed="rId1">
            <a:lum bright="30000"/>
          </a:blip>
          <a:stretch/>
        </p:blipFill>
        <p:spPr>
          <a:xfrm>
            <a:off x="5791320" y="4038480"/>
            <a:ext cx="2447640" cy="2448000"/>
          </a:xfrm>
          <a:prstGeom prst="rect">
            <a:avLst/>
          </a:prstGeom>
          <a:ln w="114480">
            <a:solidFill>
              <a:srgbClr val="ffffff">
                <a:alpha val="34000"/>
              </a:srgbClr>
            </a:solidFill>
            <a:miter/>
          </a:ln>
        </p:spPr>
      </p:pic>
      <p:sp>
        <p:nvSpPr>
          <p:cNvPr id="109" name="Slide Number Placeholder 4"/>
          <p:cNvSpPr/>
          <p:nvPr/>
        </p:nvSpPr>
        <p:spPr>
          <a:xfrm>
            <a:off x="78487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arlow Solid Italic"/>
              </a:rPr>
              <a:t>Moromet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5:24:53Z</dcterms:created>
  <dc:creator>antrax</dc:creator>
  <dc:description/>
  <dc:language>en-US</dc:language>
  <cp:lastModifiedBy>Oana</cp:lastModifiedBy>
  <dcterms:modified xsi:type="dcterms:W3CDTF">2010-05-18T19:59:13Z</dcterms:modified>
  <cp:revision>25</cp:revision>
  <dc:subject/>
  <dc:title>Studiu de caz: Tema si viziune Morometii si Cel mai iubit dintre pamanteni</dc:title>
</cp:coreProperties>
</file>